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805E-D6D9-4945-9B98-21B5A3B4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CEA-605C-4C69-865E-4E6CE751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B312-501E-4FF3-BDE6-38D01346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8251-6500-4113-B850-955A7235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838B-F49E-4E29-A903-B7877C10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BE36-0B9A-4AEA-B3A1-89CDE1C4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DDE7-B700-4C00-A2FC-0E8269BC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1315-3CA5-44AE-BE53-BC10F296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1D92-B3CA-4AAB-B9D6-A8961837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2C2F-AC99-45A6-9BBA-6BD5B3A6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0D8A-1BB6-478E-B6EA-A08BB73A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E6B-8528-4F18-8B7C-6C697DFC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17F9-0D1A-4C07-951E-FB388099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358E-2414-41B6-8305-AB1A3165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EA27-0237-4600-AC2C-7571D544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D744-85F4-4313-B1D0-ACBF0263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CD66-F90A-4BF0-B9B0-92C2AE9E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10C1-45FC-45A6-A850-F4844021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785-6BF5-41FC-8E83-6DF853B9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9A8-1BFE-44BF-85A1-9306C3B8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566-9264-4BC0-9B3A-C2676212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042-DF81-431F-A234-8C5905CB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EF7-4990-438F-8696-2964C06C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6BE-478B-49AF-A552-1ACCE411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D90D-475F-4D1C-9DB2-8C7BC63925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3AE0-7589-4D2B-A1FF-D09B7E0F171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xhgv61a0OI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il_fi" descr="EmpLogo"/>
          <p:cNvPicPr/>
          <p:nvPr/>
        </p:nvPicPr>
        <p:blipFill>
          <a:blip r:embed="rId1"/>
          <a:srcRect l="0" t="0" r="0" b="6652"/>
          <a:stretch/>
        </p:blipFill>
        <p:spPr>
          <a:xfrm>
            <a:off x="3708360" y="458136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new2colour-[Converted]"/>
          <p:cNvPicPr/>
          <p:nvPr/>
        </p:nvPicPr>
        <p:blipFill>
          <a:blip r:embed="rId2"/>
          <a:stretch/>
        </p:blipFill>
        <p:spPr>
          <a:xfrm>
            <a:off x="3348000" y="1197000"/>
            <a:ext cx="2087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bjectiv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understand the different forms of sexual exploi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different ways the abuser can manipul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 more aware of risky situations and the sly grooming 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w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y listening to real life sto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different situations that could help you identify r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aise your awareness of  sexual exploi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now how to keep yourself sa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o will be exploite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07640" y="155736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i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y go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u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kate boar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oup young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xed g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youtube.com/watch?v=Kxhgv61a0O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he Girl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ow did the abuser make her feel so speci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t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e was o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e listened to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c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ad alcoh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de her feel grown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id she looked lovely – flattere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he Man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y did he make her feel so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ain her tr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ain her friend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loit and use 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isolate and distance her from friends and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control her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800" spc="-1" strike="noStrike">
                <a:solidFill>
                  <a:srgbClr val="ffffff"/>
                </a:solidFill>
                <a:latin typeface="Arial"/>
              </a:rPr>
              <a:t>To Groom Her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In what other situation can young people be groomed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263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ne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Risk Activities </a:t>
            </a: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How risky are these?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ry risky – 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dium risk – A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w risk - G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095480" y="40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4859280" y="206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4859280" y="3357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485928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ign po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gree or Disagr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 work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uman Continu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2920" y="4868640"/>
            <a:ext cx="6408720" cy="158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at do these images  have in comm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0" y="320760"/>
            <a:ext cx="5435640" cy="3770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4427640" y="1871640"/>
            <a:ext cx="47163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392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4067280" y="476280"/>
            <a:ext cx="4476600" cy="5991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316872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"/>
          <p:cNvPicPr/>
          <p:nvPr/>
        </p:nvPicPr>
        <p:blipFill>
          <a:blip r:embed="rId1"/>
          <a:srcRect l="5315" t="0" r="5682" b="0"/>
          <a:stretch/>
        </p:blipFill>
        <p:spPr>
          <a:xfrm>
            <a:off x="539640" y="404640"/>
            <a:ext cx="8064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"/>
              </a:rPr>
              <a:t>Exploitatio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does this mean?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he dictionary says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fair treatment of someone, or the use of a situation in a way that is wrong, in order to get some benefit for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process of making use of something so that you gain as much as possible from 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nipulation, forced into taking part in some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hild Sexual Exploit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at do you think this mea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xual exploitation is a form of sexual abuse in which young people up to 18 years old are manipulated or forced into taking part in sexual activit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ould be part of what looks like a consenting relationship, or in return for attention, money, food, alcohol or somewhere to st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young person may think their abuser is their friend or even a boyfriend or girlfrie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the abuser will put them in dangerous situations forcing them to do things they don’t want to 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buser may physically or verbally threaten them or be violent towards th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ill be controlling  and manipulati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ill try to isolate them from friends and fami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4:06:02Z</dcterms:created>
  <dc:creator>ICT Dept</dc:creator>
  <dc:description/>
  <dc:language>en-US</dc:language>
  <cp:lastModifiedBy>D Harrill</cp:lastModifiedBy>
  <dcterms:modified xsi:type="dcterms:W3CDTF">2013-11-04T11:54:26Z</dcterms:modified>
  <cp:revision>13</cp:revision>
  <dc:subject/>
  <dc:title>What do these images have in common?</dc:title>
</cp:coreProperties>
</file>