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3ADC-C2F1-4082-826C-5C53E0707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CE0C-D142-423B-9F7E-DB095BED4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82A1D-9B0B-438D-A6CE-D6AB4551D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83C7-8855-43FA-A642-FB443AAFB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1FFC-9EB8-4D35-897C-9531CE9F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912B-9F22-4969-84EF-EB978C9E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14F5-474D-45E2-85A5-50D209822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5C4F-4F9C-4697-A86A-F3617C838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0799B-0C19-470D-B02D-A08E8228A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0366-9CD8-4808-988E-6AAFFDF1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5407D-9FAA-46CB-8790-A683F8B6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533D-8F51-4626-AF1B-3E6ED9765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707F-3459-4CAE-B916-6083358EE4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ild Sexual Exploit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Artwork by the NSPCC Child Trafficking Advice and Information Line (CTAIL) young people’s advisory group"/>
          <p:cNvPicPr/>
          <p:nvPr/>
        </p:nvPicPr>
        <p:blipFill>
          <a:blip r:embed="rId1"/>
          <a:stretch/>
        </p:blipFill>
        <p:spPr>
          <a:xfrm>
            <a:off x="2627280" y="3284640"/>
            <a:ext cx="3457440" cy="25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child sexual exploitation?</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xual exploitation of children and young people under 18 can involve gangs or individuals luring them into performing sexual activities in exchange for gifts like money, food, drugs or alcohol. It can also happen through grooming using technology - for example, young people being persuaded to post sexual images on the internet or mobile phones.</a:t>
            </a:r>
            <a:br>
              <a:rPr sz="2400"/>
            </a:b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t can happen to boys and girls, it can happen in rural and urban areas, it can happen face to face and it can happen online.  It is a form of child abuse and should be treated as a child protection issue.</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ng people may not see themselves as victims.  They may believe their abuser is their boyfriend and loves them.  They may be unwilling to say anything that could get their boyfriend in trouble or cause their boyfriend to become angry or break up with them. </a:t>
            </a:r>
            <a:br>
              <a:rPr sz="2000"/>
            </a:br>
            <a:br>
              <a:rPr sz="2000"/>
            </a:br>
            <a:r>
              <a:rPr b="0" lang="en-GB" sz="2000" spc="-1" strike="noStrike">
                <a:solidFill>
                  <a:srgbClr val="000000"/>
                </a:solidFill>
                <a:latin typeface="Arial"/>
              </a:rPr>
              <a:t>In some situations, such as in gangs, there may be the belief that the abuse is normal and a rite of passage.</a:t>
            </a:r>
            <a:br>
              <a:rPr sz="2000"/>
            </a:br>
            <a:br>
              <a:rPr sz="2000"/>
            </a:br>
            <a:r>
              <a:rPr b="0" lang="en-GB" sz="2000" spc="-1" strike="noStrike">
                <a:solidFill>
                  <a:srgbClr val="000000"/>
                </a:solidFill>
                <a:latin typeface="Arial"/>
              </a:rPr>
              <a:t>There may not be any peer support for the victim. The child's friends may all be in the same situation, under the control of an abuser or part of the network who is exploiting them. There may be nowhere for the child to go to escape their abusers.</a:t>
            </a:r>
            <a:br>
              <a:rPr sz="2000"/>
            </a:b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may be dependent on the things they receive such as money, drugs, alcohol, accommodation.</a:t>
            </a:r>
            <a:br>
              <a:rPr sz="2800"/>
            </a:br>
            <a:br>
              <a:rPr sz="2800"/>
            </a:br>
            <a:r>
              <a:rPr b="0" lang="en-GB" sz="2800" spc="-1" strike="noStrike">
                <a:solidFill>
                  <a:srgbClr val="000000"/>
                </a:solidFill>
                <a:latin typeface="Arial"/>
              </a:rPr>
              <a:t>.</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Nobody warned me about sexual exploitation, nobody warned me that there are lads who drive round in their posh cars and loud music, and try to groom girls. I didn’t warn my daughter. I want other parents to be aware.” (Parent, quoted by CROP)</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Don’t let guys groom you. If they give you lots of stuff, or buy you drinks, don’t think that means they love you. Or if they take you to a hotel for the night, and they’re paying for it, it’s because they want something for it. I felt so lonely, I had no one to talk to, and that’s how I ended up with bad people, and bad things happened to me.” (Young victim, quoted by Children’s Society’)</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3:37:05Z</dcterms:created>
  <dc:creator>ICT Dept</dc:creator>
  <dc:description/>
  <dc:language>en-US</dc:language>
  <cp:lastModifiedBy>D Harrill</cp:lastModifiedBy>
  <dcterms:modified xsi:type="dcterms:W3CDTF">2013-09-06T11:41:53Z</dcterms:modified>
  <cp:revision>4</cp:revision>
  <dc:subject/>
  <dc:title>Child Sexual Exploitation</dc:title>
</cp:coreProperties>
</file>